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alarmoff.wav" ContentType="audio/x-wav"/>
  <Override PartName="/ppt/media/zipdn102.wav" ContentType="audio/x-wav"/>
  <Override PartName="/ppt/media/PROJCTOR.WAV" ContentType="audio/x-wav"/>
  <Override PartName="/ppt/media/zapbig0g.wav" ContentType="audio/x-wav"/>
  <Override PartName="/ppt/media/camera.wav" ContentType="audio/x-wav"/>
  <Override PartName="/ppt/media/highchime.wav" ContentType="audio/x-wav"/>
  <Override PartName="/ppt/media/boinng04.wav" ContentType="audio/x-wav"/>
  <Override PartName="/ppt/media/partyhorn.wav" ContentType="audio/x-wav"/>
  <Override PartName="/ppt/media/bserie06.wav" ContentType="audio/x-wav"/>
  <Override PartName="/ppt/media/hzipup01.wav" ContentType="audio/x-wav"/>
  <Override PartName="/ppt/media/glass.wav" ContentType="audio/x-wav"/>
  <Override PartName="/ppt/media/cool%20man.wav" ContentType="audio/x-wav"/>
  <Override PartName="/ppt/media/zipup202.wav" ContentType="audio/x-wav"/>
  <Override PartName="/ppt/media/peopleooo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FA9A-F2D1-409E-B1A0-66DC34BBA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4884-05FC-4B92-BC5A-43E42862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010F-B7BB-45ED-A3B7-FEFD79B0B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AA9B-B144-45DA-A7DB-F47D7CFFE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8739-1C74-4C00-B23F-4C4E8313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34E1-87A9-4DF5-8F61-66EE10E1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F9BF-A2E7-4E86-AE83-88F4197F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6C5E-87B8-4539-B914-CD8DE2EF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1558-28A2-4C28-BC5D-944EE428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52F0-1DD9-47A1-A926-9784CF8C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0F42-E828-43E8-9B22-AFE7F1BE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404C-CDD8-483C-AFCB-E754E8CC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9E06-F120-4EC3-882B-EC4D8EAC5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highchime.wav"/><Relationship Id="rId3" Type="http://schemas.openxmlformats.org/officeDocument/2006/relationships/audio" Target="../media/PROJCTOR.WAV"/><Relationship Id="rId4" Type="http://schemas.openxmlformats.org/officeDocument/2006/relationships/audio" Target="../media/partyhorn.wav"/><Relationship Id="rId5" Type="http://schemas.openxmlformats.org/officeDocument/2006/relationships/audio" Target="../media/bserie06.wav"/><Relationship Id="rId6" Type="http://schemas.openxmlformats.org/officeDocument/2006/relationships/audio" Target="../media/glass.wav"/><Relationship Id="rId7" Type="http://schemas.openxmlformats.org/officeDocument/2006/relationships/audio" Target="../media/glass.wav"/><Relationship Id="rId8" Type="http://schemas.openxmlformats.org/officeDocument/2006/relationships/audio" Target="../media/zipup202.wav"/><Relationship Id="rId9" Type="http://schemas.openxmlformats.org/officeDocument/2006/relationships/audio" Target="../media/peopleooo.wav"/><Relationship Id="rId10" Type="http://schemas.openxmlformats.org/officeDocument/2006/relationships/audio" Target="../media/peopleooo.wav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glass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caralarmoff.wav"/><Relationship Id="rId7" Type="http://schemas.openxmlformats.org/officeDocument/2006/relationships/audio" Target="../media/caralarmoff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zipup202.wav"/><Relationship Id="rId11" Type="http://schemas.openxmlformats.org/officeDocument/2006/relationships/audio" Target="../media/boinng04.wav"/><Relationship Id="rId12" Type="http://schemas.openxmlformats.org/officeDocument/2006/relationships/audio" Target="../media/cool%20man.wav"/><Relationship Id="rId13" Type="http://schemas.openxmlformats.org/officeDocument/2006/relationships/audio" Target="../media/bserie06.wav"/><Relationship Id="rId14" Type="http://schemas.openxmlformats.org/officeDocument/2006/relationships/audio" Target="../media/zapbig0g.wav"/><Relationship Id="rId15" Type="http://schemas.openxmlformats.org/officeDocument/2006/relationships/audio" Target="../media/bserie06.wav"/><Relationship Id="rId16" Type="http://schemas.openxmlformats.org/officeDocument/2006/relationships/audio" Target="../media/zapbig0g.wav"/><Relationship Id="rId17" Type="http://schemas.openxmlformats.org/officeDocument/2006/relationships/audio" Target="../media/cool%20man.wav"/><Relationship Id="rId18" Type="http://schemas.openxmlformats.org/officeDocument/2006/relationships/audio" Target="../media/bserie06.wav"/><Relationship Id="rId19" Type="http://schemas.openxmlformats.org/officeDocument/2006/relationships/audio" Target="../media/bserie06.wav"/><Relationship Id="rId20" Type="http://schemas.openxmlformats.org/officeDocument/2006/relationships/audio" Target="../media/zipup202.wav"/><Relationship Id="rId21" Type="http://schemas.openxmlformats.org/officeDocument/2006/relationships/audio" Target="../media/boinng04.wav"/><Relationship Id="rId22" Type="http://schemas.openxmlformats.org/officeDocument/2006/relationships/audio" Target="../media/cool%20man.wav"/><Relationship Id="rId23" Type="http://schemas.openxmlformats.org/officeDocument/2006/relationships/audio" Target="../media/bserie06.wav"/><Relationship Id="rId24" Type="http://schemas.openxmlformats.org/officeDocument/2006/relationships/audio" Target="../media/zapbig0g.wav"/><Relationship Id="rId25" Type="http://schemas.openxmlformats.org/officeDocument/2006/relationships/audio" Target="../media/bserie06.wav"/><Relationship Id="rId26" Type="http://schemas.openxmlformats.org/officeDocument/2006/relationships/audio" Target="../media/zapbig0g.wav"/><Relationship Id="rId27" Type="http://schemas.openxmlformats.org/officeDocument/2006/relationships/audio" Target="../media/cool%20man.wav"/><Relationship Id="rId2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caralarmoff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glass.wav"/><Relationship Id="rId8" Type="http://schemas.openxmlformats.org/officeDocument/2006/relationships/audio" Target="../media/caralarmoff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glass.wav"/><Relationship Id="rId12" Type="http://schemas.openxmlformats.org/officeDocument/2006/relationships/audio" Target="../media/caralarmoff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PROJCTOR.WAV"/><Relationship Id="rId3" Type="http://schemas.openxmlformats.org/officeDocument/2006/relationships/audio" Target="../media/partyhorn.wav"/><Relationship Id="rId4" Type="http://schemas.openxmlformats.org/officeDocument/2006/relationships/audio" Target="../media/bserie06.wav"/><Relationship Id="rId5" Type="http://schemas.openxmlformats.org/officeDocument/2006/relationships/audio" Target="../media/glass.wav"/><Relationship Id="rId6" Type="http://schemas.openxmlformats.org/officeDocument/2006/relationships/audio" Target="../media/zipup202.wav"/><Relationship Id="rId7" Type="http://schemas.openxmlformats.org/officeDocument/2006/relationships/audio" Target="../media/peopleooo.wav"/><Relationship Id="rId8" Type="http://schemas.openxmlformats.org/officeDocument/2006/relationships/audio" Target="../media/bserie06.wav"/><Relationship Id="rId9" Type="http://schemas.openxmlformats.org/officeDocument/2006/relationships/audio" Target="../media/glass.wav"/><Relationship Id="rId10" Type="http://schemas.openxmlformats.org/officeDocument/2006/relationships/audio" Target="../media/zipup202.wav"/><Relationship Id="rId11" Type="http://schemas.openxmlformats.org/officeDocument/2006/relationships/audio" Target="../media/peopleooo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caralarmoff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glass.wav"/><Relationship Id="rId8" Type="http://schemas.openxmlformats.org/officeDocument/2006/relationships/audio" Target="../media/caralarmoff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glass.wav"/><Relationship Id="rId12" Type="http://schemas.openxmlformats.org/officeDocument/2006/relationships/audio" Target="../media/caralarmoff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caralarmoff.wav"/><Relationship Id="rId5" Type="http://schemas.openxmlformats.org/officeDocument/2006/relationships/audio" Target="../media/bserie06.wav"/><Relationship Id="rId6" Type="http://schemas.openxmlformats.org/officeDocument/2006/relationships/audio" Target="../media/hzipup01.wav"/><Relationship Id="rId7" Type="http://schemas.openxmlformats.org/officeDocument/2006/relationships/audio" Target="../media/caralarmoff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zipup202.wav"/><Relationship Id="rId11" Type="http://schemas.openxmlformats.org/officeDocument/2006/relationships/audio" Target="../media/hzipup01.wav"/><Relationship Id="rId12" Type="http://schemas.openxmlformats.org/officeDocument/2006/relationships/audio" Target="../media/cool%20man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glass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caralarmoff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zipup202.wav"/><Relationship Id="rId10" Type="http://schemas.openxmlformats.org/officeDocument/2006/relationships/audio" Target="../media/hzipup01.wav"/><Relationship Id="rId11" Type="http://schemas.openxmlformats.org/officeDocument/2006/relationships/audio" Target="../media/peopleooo.wav"/><Relationship Id="rId12" Type="http://schemas.openxmlformats.org/officeDocument/2006/relationships/audio" Target="../media/bserie06.wav"/><Relationship Id="rId13" Type="http://schemas.openxmlformats.org/officeDocument/2006/relationships/audio" Target="../media/zapbig0g.wav"/><Relationship Id="rId14" Type="http://schemas.openxmlformats.org/officeDocument/2006/relationships/audio" Target="../media/bserie06.wav"/><Relationship Id="rId15" Type="http://schemas.openxmlformats.org/officeDocument/2006/relationships/audio" Target="../media/zapbig0g.wav"/><Relationship Id="rId16" Type="http://schemas.openxmlformats.org/officeDocument/2006/relationships/audio" Target="../media/cool%20man.wav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glass.wav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caralarmoff.wav"/><Relationship Id="rId7" Type="http://schemas.openxmlformats.org/officeDocument/2006/relationships/audio" Target="../media/bserie06.wav"/><Relationship Id="rId8" Type="http://schemas.openxmlformats.org/officeDocument/2006/relationships/audio" Target="../media/hzipup01.wav"/><Relationship Id="rId9" Type="http://schemas.openxmlformats.org/officeDocument/2006/relationships/audio" Target="../media/caralarmoff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zipup202.wav"/><Relationship Id="rId13" Type="http://schemas.openxmlformats.org/officeDocument/2006/relationships/audio" Target="../media/boinng04.wav"/><Relationship Id="rId14" Type="http://schemas.openxmlformats.org/officeDocument/2006/relationships/audio" Target="../media/cool%20man.wav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caralarmoff.wav"/><Relationship Id="rId6" Type="http://schemas.openxmlformats.org/officeDocument/2006/relationships/audio" Target="../media/caralarmoff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zipup202.wav"/><Relationship Id="rId10" Type="http://schemas.openxmlformats.org/officeDocument/2006/relationships/audio" Target="../media/boinng04.wav"/><Relationship Id="rId11" Type="http://schemas.openxmlformats.org/officeDocument/2006/relationships/audio" Target="../media/cool%20man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audio" Target="../media/zipup202.wav"/><Relationship Id="rId15" Type="http://schemas.openxmlformats.org/officeDocument/2006/relationships/audio" Target="../media/boinng04.wav"/><Relationship Id="rId16" Type="http://schemas.openxmlformats.org/officeDocument/2006/relationships/audio" Target="../media/cool%20man.wav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caralarmoff.wav"/><Relationship Id="rId6" Type="http://schemas.openxmlformats.org/officeDocument/2006/relationships/audio" Target="../media/caralarmoff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zipup202.wav"/><Relationship Id="rId10" Type="http://schemas.openxmlformats.org/officeDocument/2006/relationships/audio" Target="../media/boinng04.wav"/><Relationship Id="rId11" Type="http://schemas.openxmlformats.org/officeDocument/2006/relationships/audio" Target="../media/cool%20man.wav"/><Relationship Id="rId12" Type="http://schemas.openxmlformats.org/officeDocument/2006/relationships/audio" Target="../media/bserie06.wav"/><Relationship Id="rId13" Type="http://schemas.openxmlformats.org/officeDocument/2006/relationships/audio" Target="../media/zapbig0g.wav"/><Relationship Id="rId14" Type="http://schemas.openxmlformats.org/officeDocument/2006/relationships/audio" Target="../media/bserie06.wav"/><Relationship Id="rId15" Type="http://schemas.openxmlformats.org/officeDocument/2006/relationships/audio" Target="../media/zapbig0g.wav"/><Relationship Id="rId16" Type="http://schemas.openxmlformats.org/officeDocument/2006/relationships/audio" Target="../media/cool%20man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audio" Target="../media/zipup202.wav"/><Relationship Id="rId20" Type="http://schemas.openxmlformats.org/officeDocument/2006/relationships/audio" Target="../media/boinng04.wav"/><Relationship Id="rId21" Type="http://schemas.openxmlformats.org/officeDocument/2006/relationships/audio" Target="../media/cool%20man.wav"/><Relationship Id="rId22" Type="http://schemas.openxmlformats.org/officeDocument/2006/relationships/audio" Target="../media/bserie06.wav"/><Relationship Id="rId23" Type="http://schemas.openxmlformats.org/officeDocument/2006/relationships/audio" Target="../media/zapbig0g.wav"/><Relationship Id="rId24" Type="http://schemas.openxmlformats.org/officeDocument/2006/relationships/audio" Target="../media/bserie06.wav"/><Relationship Id="rId25" Type="http://schemas.openxmlformats.org/officeDocument/2006/relationships/audio" Target="../media/zapbig0g.wav"/><Relationship Id="rId26" Type="http://schemas.openxmlformats.org/officeDocument/2006/relationships/audio" Target="../media/cool%20man.wav"/><Relationship Id="rId2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360" y="852480"/>
            <a:ext cx="8686800" cy="40464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928800"/>
            <a:ext cx="86263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Factoring Special Product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44800" y="1454040"/>
            <a:ext cx="487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Difference of Two Squ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578400" y="1906560"/>
                <a:ext cx="16318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739960" y="2505240"/>
                <a:ext cx="16290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309920" y="2519280"/>
                <a:ext cx="15796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3038400" y="3187800"/>
                <a:ext cx="26352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219400" y="3941640"/>
                <a:ext cx="22161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4336920" y="3956040"/>
                <a:ext cx="216864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12920" y="1623960"/>
                <a:ext cx="29718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 Quadratic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factoring to solve the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784080" y="2905200"/>
                <a:ext cx="509292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977760" y="3013200"/>
                <a:ext cx="17938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965320" y="3024360"/>
                <a:ext cx="17924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560520" y="3884760"/>
                <a:ext cx="27986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273560" y="3854520"/>
                <a:ext cx="27972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271520" y="4446720"/>
                <a:ext cx="100800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327400" y="4414680"/>
                <a:ext cx="10094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638280" y="5192640"/>
            <a:ext cx="25365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373040" y="5175360"/>
                <a:ext cx="94464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206800" y="5197320"/>
                <a:ext cx="11221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997520" y="4462560"/>
                <a:ext cx="100800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6083280" y="4430880"/>
                <a:ext cx="10098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4560840" y="520848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5067360" y="5173560"/>
                <a:ext cx="94464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892840" y="5183280"/>
                <a:ext cx="153684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1442880" y="5973840"/>
            <a:ext cx="7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55720" y="5962680"/>
            <a:ext cx="7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571760" y="5889600"/>
                <a:ext cx="5601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801880" y="5889600"/>
                <a:ext cx="5652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7380360" y="1403280"/>
                <a:ext cx="138276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5335560" y="5989680"/>
            <a:ext cx="71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548400" y="5978520"/>
            <a:ext cx="71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5462640" y="5905440"/>
                <a:ext cx="5619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6696000" y="5905440"/>
                <a:ext cx="5637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7164360" y="2819520"/>
                <a:ext cx="1752480" cy="14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100160" y="2263680"/>
                <a:ext cx="28749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00"/>
                            </p:stCondLst>
                            <p:childTnLst>
                              <p:par>
                                <p:cTn id="8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0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500"/>
                            </p:stCondLst>
                            <p:childTnLst>
                              <p:par>
                                <p:cTn id="8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34960" y="1793880"/>
                <a:ext cx="25876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ing the Difference of Two Squ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24000" y="2662200"/>
                <a:ext cx="408600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 the trinom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80960" y="2708280"/>
                <a:ext cx="18493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494080" y="2692440"/>
                <a:ext cx="18493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976640" y="1757520"/>
                <a:ext cx="27781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761000" y="2625840"/>
                <a:ext cx="408600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917960" y="2671920"/>
                <a:ext cx="18496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931080" y="2655720"/>
                <a:ext cx="1849320" cy="8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q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98320" y="3886200"/>
                <a:ext cx="2970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65120" y="4656240"/>
                <a:ext cx="40863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89040" y="4732200"/>
                <a:ext cx="17938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600280" y="4729320"/>
                <a:ext cx="17924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98360" y="852480"/>
            <a:ext cx="8686800" cy="41846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928800"/>
            <a:ext cx="86263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Factoring Special Product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44800" y="1454040"/>
            <a:ext cx="487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Perfect Square Trinom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828720" y="1981080"/>
                <a:ext cx="29462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468440" y="2532240"/>
                <a:ext cx="182088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77880" y="3373560"/>
                <a:ext cx="34495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389240" y="4019400"/>
                <a:ext cx="207144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951440" y="1957320"/>
                <a:ext cx="29462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5591160" y="2508120"/>
                <a:ext cx="182088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788000" y="3362400"/>
                <a:ext cx="34020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499000" y="4008600"/>
                <a:ext cx="202428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72960" y="1854360"/>
                <a:ext cx="36892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ing the Difference of Two Squ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163520" y="2606760"/>
                <a:ext cx="240660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 the trinom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476360" y="2922480"/>
                <a:ext cx="560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608360" y="1879560"/>
                <a:ext cx="41198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5600880" y="2570040"/>
                <a:ext cx="24066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5845320" y="2727360"/>
                <a:ext cx="8967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610320" y="2711520"/>
                <a:ext cx="10098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17600" y="3838680"/>
                <a:ext cx="37368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305000" y="4600440"/>
                <a:ext cx="240660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498680" y="4754520"/>
                <a:ext cx="95256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309760" y="4781520"/>
                <a:ext cx="8971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030400" y="2739960"/>
                <a:ext cx="10080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25440" y="1636560"/>
                <a:ext cx="49356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 Quadratic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992160" y="2219400"/>
                <a:ext cx="34686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factoring to solve the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43080" y="2558880"/>
                <a:ext cx="5601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668600" y="2405160"/>
                <a:ext cx="12888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192320" y="3105000"/>
                <a:ext cx="27446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630440" y="3724200"/>
                <a:ext cx="12873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836800" y="3713040"/>
                <a:ext cx="12844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1308240" y="4470480"/>
            <a:ext cx="25365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192400" y="4581360"/>
                <a:ext cx="6159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762280" y="4425840"/>
                <a:ext cx="13460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630360" y="1563840"/>
                <a:ext cx="38811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4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 Quadratic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293840" y="2733840"/>
                <a:ext cx="347040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factoring to solve the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530360" y="2900520"/>
                <a:ext cx="8967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333520" y="2900520"/>
                <a:ext cx="89712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025640" y="2163600"/>
                <a:ext cx="36892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881440" y="4235400"/>
                <a:ext cx="8953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844800" y="4237200"/>
                <a:ext cx="89712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2158920" y="498636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867040" y="4919760"/>
                <a:ext cx="8953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795840" y="4930920"/>
                <a:ext cx="9540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2936880" y="5622840"/>
            <a:ext cx="71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49720" y="5611680"/>
            <a:ext cx="71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065400" y="5538960"/>
                <a:ext cx="5605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297320" y="5538960"/>
                <a:ext cx="5637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618160" y="4863960"/>
                <a:ext cx="147312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050920" y="3627360"/>
                <a:ext cx="26863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15800" y="1563840"/>
                <a:ext cx="48880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3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 Quadratic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927000" y="2946240"/>
                <a:ext cx="375120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factoring to solve the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608120" y="3247920"/>
                <a:ext cx="5605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087640" y="3112920"/>
                <a:ext cx="10080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816120" y="2338560"/>
                <a:ext cx="4408200" cy="80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676600" y="4427640"/>
                <a:ext cx="10634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672000" y="4397400"/>
                <a:ext cx="10652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2070000" y="514656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011400" y="5415120"/>
                <a:ext cx="5907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284120" y="2274840"/>
                <a:ext cx="67176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836720" y="2376360"/>
                <a:ext cx="11509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967120" y="2379600"/>
                <a:ext cx="11034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502080" y="5241960"/>
                <a:ext cx="11224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268360" y="3824280"/>
                <a:ext cx="24624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92120" y="1547640"/>
                <a:ext cx="3546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 Quadratic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factoring to solve the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693720" y="2279520"/>
                <a:ext cx="50925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117440" y="2355840"/>
                <a:ext cx="14576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000240" y="2352600"/>
                <a:ext cx="15130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668160" y="3305160"/>
                <a:ext cx="24624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441600" y="3305160"/>
                <a:ext cx="24624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152360" y="3913200"/>
                <a:ext cx="10638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147760" y="3881520"/>
                <a:ext cx="10652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546120" y="465948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487520" y="4897440"/>
                <a:ext cx="5904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978200" y="4724280"/>
                <a:ext cx="11221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998880" y="3913200"/>
                <a:ext cx="10080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994280" y="3881520"/>
                <a:ext cx="10098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365640" y="4659480"/>
            <a:ext cx="25365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307040" y="4897440"/>
                <a:ext cx="5904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834080" y="4724280"/>
                <a:ext cx="153648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55760" y="1592280"/>
                <a:ext cx="38336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9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0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 Quadratic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8120" y="1163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factoring to solve the equ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693720" y="2279520"/>
                <a:ext cx="50925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949320" y="2332080"/>
                <a:ext cx="17938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874960" y="2343240"/>
                <a:ext cx="17924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15880" y="3036960"/>
                <a:ext cx="279900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763800" y="3036960"/>
                <a:ext cx="279720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195560" y="3700440"/>
                <a:ext cx="10080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190600" y="3668760"/>
                <a:ext cx="10098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561960" y="4446720"/>
            <a:ext cx="25369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312920" y="4430880"/>
                <a:ext cx="94464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158920" y="4451400"/>
                <a:ext cx="10638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4487760" y="3700440"/>
                <a:ext cx="10080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573880" y="3668760"/>
                <a:ext cx="10094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4051440" y="4446720"/>
            <a:ext cx="25365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557600" y="4414680"/>
                <a:ext cx="94464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411880" y="4421160"/>
                <a:ext cx="14778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1366920" y="5227560"/>
            <a:ext cx="71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79760" y="5216400"/>
            <a:ext cx="71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522440" y="5116680"/>
                <a:ext cx="50472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754360" y="5116680"/>
                <a:ext cx="5079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614680" y="5425920"/>
                <a:ext cx="138420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826160" y="5227560"/>
            <a:ext cx="71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39000" y="5216400"/>
            <a:ext cx="71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981680" y="5116680"/>
                <a:ext cx="50472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6213600" y="5116680"/>
                <a:ext cx="5079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919840" y="5425920"/>
                <a:ext cx="175248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500"/>
                            </p:stCondLst>
                            <p:childTnLst>
                              <p:par>
                                <p:cTn id="7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CSS</cp:lastModifiedBy>
  <dcterms:modified xsi:type="dcterms:W3CDTF">2003-02-10T18:38:40Z</dcterms:modified>
  <cp:revision>18</cp:revision>
  <dc:subject/>
  <dc:title>Slide 1</dc:title>
</cp:coreProperties>
</file>